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2.wmf" ContentType="image/x-wmf"/>
  <Override PartName="/ppt/media/image21.jpeg" ContentType="image/jpeg"/>
  <Override PartName="/ppt/media/image18.wmf" ContentType="image/x-wmf"/>
  <Override PartName="/ppt/media/image2.jpeg" ContentType="image/jpeg"/>
  <Override PartName="/ppt/media/image20.png" ContentType="image/png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10.jpeg" ContentType="image/jpeg"/>
  <Override PartName="/ppt/media/image5.png" ContentType="image/png"/>
  <Override PartName="/ppt/media/image27.png" ContentType="image/png"/>
  <Override PartName="/ppt/media/image12.wmf" ContentType="image/x-wmf"/>
  <Override PartName="/ppt/media/image30.jpeg" ContentType="image/jpeg"/>
  <Override PartName="/ppt/media/image35.wmf" ContentType="image/x-wmf"/>
  <Override PartName="/ppt/media/image32.jpeg" ContentType="image/jpeg"/>
  <Override PartName="/ppt/media/image33.wmf" ContentType="image/x-wmf"/>
  <Override PartName="/ppt/media/image13.png" ContentType="image/png"/>
  <Override PartName="/ppt/media/image37.jpeg" ContentType="image/jpeg"/>
  <Override PartName="/ppt/media/image40.wmf" ContentType="image/x-wmf"/>
  <Override PartName="/ppt/media/image34.jpeg" ContentType="image/jpeg"/>
  <Override PartName="/ppt/media/image7.jpeg" ContentType="image/jpeg"/>
  <Override PartName="/ppt/media/image28.jpeg" ContentType="image/jpeg"/>
  <Override PartName="/ppt/media/image36.wmf" ContentType="image/x-wmf"/>
  <Override PartName="/ppt/media/image39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6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5C77-9AC1-4929-A8D2-71CF86FD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5BB-DBB8-409E-9BF0-100DBCE2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CD2-0BE3-4FA3-93B1-419DD5FA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FC3-BBC3-4252-91DC-65979BD1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C463-362E-4333-9605-AAD01ED2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B665-64D5-4B76-BFAA-F6CDF00A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130E-C52B-4928-BDE5-11E714DB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4FD8-5278-48D0-A72A-EA8324C2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8C92-E9E7-4E66-BFE2-28D946C4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BB1A-7BA4-4031-8047-32496412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DA9C-D777-4FDB-A037-9326CF3B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741-EFF4-4888-A80C-4F025970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02F3-C52C-4588-AD63-A40DD6A3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CA61-3368-410B-B4A8-9448B202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2625-A0E0-481C-AD24-5CB158AD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3D9D-0AC2-4D21-988A-948E3437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DDA1-469D-417A-AA9A-F8246C92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D93FC-AD6F-436E-BB54-C92710D3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39430-1D70-4504-A83C-3CFCAA4B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7E599-F99F-492A-AE3C-300105F2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BF82C-DE0E-4D8D-8B4D-D5AAF792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419C7-6904-4ECC-AEF4-8751E4A6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9C27-A64C-431B-9339-EB7FF0F2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F3290-7583-4AEC-B6F1-7509E142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CECCA-57FC-4F17-9A13-F90396E2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3C450-65A2-4B34-946E-CEEAF509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769A6-0AF4-415E-9B81-4360387D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58E03-0921-4D7C-91F2-90BD4B56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544D4-B3CF-4169-8156-2C058BF3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D2174-F0B1-4328-B329-F723F5DD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894DD-BA25-4837-A5AD-5EDC4A66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832E8-0257-45B8-8914-1AC2C241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92803-162A-45EB-8D01-A4498DC8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835-609B-471D-AF9E-FBAB4CEE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74AA3-4616-4ECC-B2C9-000032C4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DFA7C-6450-43AC-AAC3-D596D4B3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CBFE6-D961-4650-BBB1-BF62817C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693BE-664B-4E9F-A8CC-1004C5AE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8A392-845B-4086-8D16-48C7FA2A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BFF2B-EBE7-4345-A45A-03789EC5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71A5A-A0B2-47A8-AE6B-3986B9B6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BDD1C-49E1-46FA-A70A-35183A1B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7F4A8-0A5A-4240-BA00-120D16A5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BCACD-F269-458C-B6E7-C1A6B7A2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FE2-BE28-465B-BFB9-81D310C6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34CA6-0618-4BF3-95A6-4583A0D2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9331A-49D4-4148-B8BD-ED2B0531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3FEF8-2A45-4546-A73A-94051B12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40A82-2530-4275-856F-10E3D10F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ADFA6-456B-48DB-9AD0-54806097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F8241-560F-44EA-BF0E-B932C7D8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7F3F2-BEAC-4F7E-AB02-8BEC396B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FE78A-1600-4817-B626-4D46BB88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31C50-7BE7-4518-A638-60C47ECF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21549-1110-4CC3-8F8D-40131E65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E982-2476-4F6C-9143-B2118DF9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FCA3C-F2EE-44F1-8EA9-4061D228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CA926-5630-4A81-8B94-7BB30DA2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94240-C43E-4F51-95FF-1BED3467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C2929-5134-4B5F-9CC4-9EAE3C2B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53E62-9A26-4FEB-99A8-F07F7B8E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0A43C-E48F-4C9A-A3B3-53A87A2F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2514E-A968-4F25-A019-CA97D6C8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B15F6-9A75-4F87-8464-6B830263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04E58-62CC-4AA1-B604-09302D90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4E289-5220-4E36-8898-D6935E72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BF8-2938-453E-83B4-CDE5ABAA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AAE4F-D295-4E0B-9BDA-7786DF6A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90EA1-992D-46B0-868C-DF8FD200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DDDFE-CDDD-4BE0-90E3-EC8559CB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EE4FD-370A-45AE-A799-A055C075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E4B2F-FE0B-487F-8CE4-AD3DD7AD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5DAAF-6CF9-4A80-9B4B-D30EDE31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61898-367C-4E33-9162-BBADF229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D5F3F-EEAE-4D41-A3FE-6D0BD910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752AC-5E60-4E60-82E1-EDDF3A0A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BE8FA-92EF-437F-921F-88743A85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8E88-E69D-4E74-A9CE-B0788EBA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D1576-14A0-48DF-A4AE-B15A87EF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94EE2-E1D2-454C-9450-739A2CF5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67B23-B7C9-4C48-8D00-A244E27D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9A1DB-A825-42B8-AD56-7ABA2747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44CDF-D80C-4C7B-AEFB-0B76CC98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194C4-4520-422A-996A-14F65A58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6834E-F2DD-49C6-934F-06430D69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25269-0B85-41B1-BD7B-078B307B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0EB01-83FA-49CD-9F94-32331046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8FBD8-14AD-438D-A683-5FA6E509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96D-B050-48A7-AF8E-5C931F84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DA16C-3DEF-45E5-96EC-42AD6677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D2FC2-5DE9-44E2-9A93-A73EFB74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800D1-6742-423F-9E7E-D13EE73A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DB0B0-AE7F-467A-BF63-EE0D83AA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0A00F-61D1-42E3-BBD5-D8DBF990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895CB-786A-4E58-B450-D5509071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4F711-1D5E-4FDE-9BDE-28E5CBB5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FB0F-FFBF-4E47-8A3F-42470B449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1E78-F386-4FB8-972B-3961FEE706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14BD-D073-4C07-B4EE-796E078C0A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5181-40E7-4451-BB5B-256C4D514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6A5C-DE5C-49E6-BCEC-ED27292585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E2BD-62D3-4532-8FFB-FC4DDBC08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D7BF-EAAB-4076-9599-F8232613E2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5321-0CE6-474C-BE67-74E5EEF923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ERCADO PARA LA AGROINDUSTRIA PERUA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54080" y="957240"/>
          <a:ext cx="8961480" cy="520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957240"/>
                    <a:ext cx="896148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79280" y="624852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10920" y="-90720"/>
            <a:ext cx="619308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68360" y="-18000"/>
            <a:ext cx="6732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. NACIONAL (TM) Y PRECIOS CHACRA* (US$ / KG) 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-59040" y="836640"/>
            <a:ext cx="9176040" cy="6023160"/>
            <a:chOff x="-59040" y="836640"/>
            <a:chExt cx="9176040" cy="6023160"/>
          </a:xfrm>
        </p:grpSpPr>
        <p:sp>
          <p:nvSpPr>
            <p:cNvPr id="409" name=""/>
            <p:cNvSpPr/>
            <p:nvPr/>
          </p:nvSpPr>
          <p:spPr>
            <a:xfrm>
              <a:off x="-59040" y="6400800"/>
              <a:ext cx="378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* Precio de principal variedad: Algodón Tangui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410" name=""/>
            <p:cNvGraphicFramePr/>
            <p:nvPr/>
          </p:nvGraphicFramePr>
          <p:xfrm>
            <a:off x="6480" y="1233360"/>
            <a:ext cx="9110520" cy="490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233360"/>
                      <a:ext cx="9110520" cy="490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2" name=""/>
            <p:cNvGrpSpPr/>
            <p:nvPr/>
          </p:nvGrpSpPr>
          <p:grpSpPr>
            <a:xfrm>
              <a:off x="7315200" y="836640"/>
              <a:ext cx="1757880" cy="1066680"/>
              <a:chOff x="7315200" y="836640"/>
              <a:chExt cx="1757880" cy="1066680"/>
            </a:xfrm>
          </p:grpSpPr>
          <p:sp>
            <p:nvSpPr>
              <p:cNvPr id="413" name=""/>
              <p:cNvSpPr/>
              <p:nvPr/>
            </p:nvSpPr>
            <p:spPr>
              <a:xfrm>
                <a:off x="7315200" y="836640"/>
                <a:ext cx="1752480" cy="1066680"/>
              </a:xfrm>
              <a:prstGeom prst="flowChartAlternateProcess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923240" y="912960"/>
                <a:ext cx="406080" cy="2462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 </a:t>
                </a: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TM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29320" y="1141560"/>
                <a:ext cx="1104480" cy="6955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Variación %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26800" y="1081080"/>
                <a:ext cx="746280" cy="750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7,368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3,367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&lt; 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168120" y="919080"/>
            <a:ext cx="9018720" cy="5797080"/>
            <a:chOff x="168120" y="919080"/>
            <a:chExt cx="9018720" cy="5797080"/>
          </a:xfrm>
        </p:grpSpPr>
        <p:graphicFrame>
          <p:nvGraphicFramePr>
            <p:cNvPr id="420" name=""/>
            <p:cNvGraphicFramePr/>
            <p:nvPr/>
          </p:nvGraphicFramePr>
          <p:xfrm>
            <a:off x="168120" y="919080"/>
            <a:ext cx="9018720" cy="526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8120" y="919080"/>
                      <a:ext cx="9018720" cy="526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457200" y="61657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*Estimad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25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ION NACIONAL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(TM) - 2003 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050560" y="-907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ESPARRAGO FRES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99 -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64342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77840" y="884160"/>
            <a:ext cx="8907480" cy="5876280"/>
            <a:chOff x="177840" y="884160"/>
            <a:chExt cx="8907480" cy="5876280"/>
          </a:xfrm>
        </p:grpSpPr>
        <p:graphicFrame>
          <p:nvGraphicFramePr>
            <p:cNvPr id="429" name=""/>
            <p:cNvGraphicFramePr/>
            <p:nvPr/>
          </p:nvGraphicFramePr>
          <p:xfrm>
            <a:off x="177840" y="884160"/>
            <a:ext cx="8907480" cy="5475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7840" y="884160"/>
                      <a:ext cx="8907480" cy="547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496440" y="64515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36800" y="6453360"/>
              <a:ext cx="24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Cifra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050920" y="11592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A: MERCADO DEL ESPARRAGO FRESC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7520" y="1035000"/>
            <a:ext cx="9167760" cy="5550120"/>
            <a:chOff x="47520" y="1035000"/>
            <a:chExt cx="9167760" cy="5550120"/>
          </a:xfrm>
        </p:grpSpPr>
        <p:graphicFrame>
          <p:nvGraphicFramePr>
            <p:cNvPr id="437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179280" y="6308640"/>
              <a:ext cx="29624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65520" y="2297160"/>
              <a:ext cx="490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  2001   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MANG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) CAMPAÑA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999/2000 -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3/ 2004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95400" y="1057320"/>
          <a:ext cx="9119880" cy="53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057320"/>
                    <a:ext cx="911988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28800" y="630864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(*) Hasta 19 de enero 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uente: AD</a:t>
            </a:r>
            <a:r>
              <a:rPr b="1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UA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181080" y="64594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12720" y="115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USA: MERCADO DEL MANGO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aphicFrame>
          <p:nvGraphicFramePr>
            <p:cNvPr id="454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381720"/>
              <a:ext cx="274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37120" y="2270160"/>
              <a:ext cx="46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2001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050920" y="-243360"/>
            <a:ext cx="69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UVA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br>
              <a:rPr sz="1800"/>
            </a:b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98/99, 99/00, 00/01, 01/02, 02/03 Y 03/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800" y="914400"/>
            <a:ext cx="9059760" cy="5917320"/>
            <a:chOff x="1800" y="914400"/>
            <a:chExt cx="9059760" cy="5917320"/>
          </a:xfrm>
        </p:grpSpPr>
        <p:graphicFrame>
          <p:nvGraphicFramePr>
            <p:cNvPr id="461" name=""/>
            <p:cNvGraphicFramePr/>
            <p:nvPr/>
          </p:nvGraphicFramePr>
          <p:xfrm>
            <a:off x="11160" y="914400"/>
            <a:ext cx="9050400" cy="539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60" y="914400"/>
                      <a:ext cx="9050400" cy="539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"/>
            <p:cNvSpPr/>
            <p:nvPr/>
          </p:nvSpPr>
          <p:spPr>
            <a:xfrm>
              <a:off x="1800" y="6524640"/>
              <a:ext cx="170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50400" y="6502320"/>
              <a:ext cx="218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(*)Hasta Diciembre del 20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11280" y="115920"/>
            <a:ext cx="6481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TADOS UNIDOS: ABASTECIMIENTO DE UVA FRESCA  1999 - 2002 (TM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pSp>
          <p:nvGrpSpPr>
            <p:cNvPr id="471" name=""/>
            <p:cNvGrpSpPr/>
            <p:nvPr/>
          </p:nvGrpSpPr>
          <p:grpSpPr>
            <a:xfrm>
              <a:off x="0" y="1035000"/>
              <a:ext cx="9215280" cy="5684040"/>
              <a:chOff x="0" y="1035000"/>
              <a:chExt cx="9215280" cy="5684040"/>
            </a:xfrm>
          </p:grpSpPr>
          <p:graphicFrame>
            <p:nvGraphicFramePr>
              <p:cNvPr id="472" name=""/>
              <p:cNvGraphicFramePr/>
              <p:nvPr/>
            </p:nvGraphicFramePr>
            <p:xfrm>
              <a:off x="47520" y="1035000"/>
              <a:ext cx="9167760" cy="5418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7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520" y="1035000"/>
                        <a:ext cx="9167760" cy="541836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474" name=""/>
              <p:cNvSpPr/>
              <p:nvPr/>
            </p:nvSpPr>
            <p:spPr>
              <a:xfrm>
                <a:off x="0" y="6381720"/>
                <a:ext cx="3348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Verdana"/>
                  </a:rPr>
                  <a:t>Fuente : Gobierno de Estados Unidos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790720" y="2060640"/>
              <a:ext cx="48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1999              2000                2001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79280" y="-243360"/>
            <a:ext cx="7164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LTA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999,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-6120" y="836640"/>
            <a:ext cx="8980200" cy="6012360"/>
            <a:chOff x="-6120" y="836640"/>
            <a:chExt cx="8980200" cy="6012360"/>
          </a:xfrm>
        </p:grpSpPr>
        <p:graphicFrame>
          <p:nvGraphicFramePr>
            <p:cNvPr id="478" name=""/>
            <p:cNvGraphicFramePr/>
            <p:nvPr/>
          </p:nvGraphicFramePr>
          <p:xfrm>
            <a:off x="0" y="836640"/>
            <a:ext cx="8974080" cy="5437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8974080" cy="54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325080" y="62373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120" y="6541920"/>
              <a:ext cx="24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Dato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95280" y="-76680"/>
            <a:ext cx="6491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PRECIOS Y VOLUMENES SUMINISTRADOS AL MERCADO MAYORISTA DE LIMA 2001, 2002 Y 2003</a:t>
            </a: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-10800" y="981000"/>
            <a:ext cx="9288000" cy="5704920"/>
            <a:chOff x="-10800" y="981000"/>
            <a:chExt cx="9288000" cy="5704920"/>
          </a:xfrm>
        </p:grpSpPr>
        <p:sp>
          <p:nvSpPr>
            <p:cNvPr id="333" name=""/>
            <p:cNvSpPr/>
            <p:nvPr/>
          </p:nvSpPr>
          <p:spPr>
            <a:xfrm>
              <a:off x="-10800" y="6165720"/>
              <a:ext cx="26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OTA:  Precio de Papa Blan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0" y="998280"/>
            <a:ext cx="9277200" cy="523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8280"/>
                      <a:ext cx="9277200" cy="523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6" name=""/>
            <p:cNvSpPr/>
            <p:nvPr/>
          </p:nvSpPr>
          <p:spPr>
            <a:xfrm>
              <a:off x="7362720" y="98100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1120" y="105696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1285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74680" y="1225440"/>
              <a:ext cx="7462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80,95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62,86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&lt;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0560" y="-171720"/>
            <a:ext cx="720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ITRICO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1999,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240" y="1071720"/>
            <a:ext cx="8947080" cy="5455080"/>
            <a:chOff x="3240" y="1071720"/>
            <a:chExt cx="8947080" cy="5455080"/>
          </a:xfrm>
        </p:grpSpPr>
        <p:graphicFrame>
          <p:nvGraphicFramePr>
            <p:cNvPr id="486" name=""/>
            <p:cNvGraphicFramePr/>
            <p:nvPr/>
          </p:nvGraphicFramePr>
          <p:xfrm>
            <a:off x="3240" y="1071720"/>
            <a:ext cx="8947080" cy="5155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" y="1071720"/>
                      <a:ext cx="8947080" cy="51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8" name=""/>
            <p:cNvSpPr/>
            <p:nvPr/>
          </p:nvSpPr>
          <p:spPr>
            <a:xfrm>
              <a:off x="74160" y="621972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340000" y="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TINO MENSUAL DE LAS EXPORTACIONES DE CITR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ERO 1999 - 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CIEMBR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3 (T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7240" y="981000"/>
            <a:ext cx="9086760" cy="6092280"/>
            <a:chOff x="57240" y="981000"/>
            <a:chExt cx="9086760" cy="6092280"/>
          </a:xfrm>
        </p:grpSpPr>
        <p:graphicFrame>
          <p:nvGraphicFramePr>
            <p:cNvPr id="493" name=""/>
            <p:cNvGraphicFramePr/>
            <p:nvPr/>
          </p:nvGraphicFramePr>
          <p:xfrm>
            <a:off x="57240" y="981000"/>
            <a:ext cx="90867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40" y="981000"/>
                      <a:ext cx="90867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124560" y="6553080"/>
              <a:ext cx="16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58920" y="2060640"/>
              <a:ext cx="73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1999            2000            2001         2002          200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DOS UNIDOS: ABASTECIMIENTO DE CITRICOS FRESCOS 2000 - 2002 (TM)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7960" y="984240"/>
            <a:ext cx="9119520" cy="5864400"/>
            <a:chOff x="57960" y="984240"/>
            <a:chExt cx="9119520" cy="5864400"/>
          </a:xfrm>
        </p:grpSpPr>
        <p:graphicFrame>
          <p:nvGraphicFramePr>
            <p:cNvPr id="501" name=""/>
            <p:cNvGraphicFramePr/>
            <p:nvPr/>
          </p:nvGraphicFramePr>
          <p:xfrm>
            <a:off x="81000" y="984240"/>
            <a:ext cx="909648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000" y="984240"/>
                      <a:ext cx="909648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3" name=""/>
            <p:cNvSpPr/>
            <p:nvPr/>
          </p:nvSpPr>
          <p:spPr>
            <a:xfrm>
              <a:off x="57960" y="6572160"/>
              <a:ext cx="257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Verdana"/>
                </a:rPr>
                <a:t>Fuente: Gobierno Estados Unido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73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81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29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Índice del Tipo de Cambio e Índice de Precios al Consumidor de Perú y Brasil (Año 1994=100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780000" y="6427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15876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765000"/>
            <a:ext cx="9212400" cy="6125040"/>
            <a:chOff x="0" y="765000"/>
            <a:chExt cx="9212400" cy="6125040"/>
          </a:xfrm>
        </p:grpSpPr>
        <p:sp>
          <p:nvSpPr>
            <p:cNvPr id="514" name=""/>
            <p:cNvSpPr/>
            <p:nvPr/>
          </p:nvSpPr>
          <p:spPr>
            <a:xfrm>
              <a:off x="0" y="6335640"/>
              <a:ext cx="8675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uente: International Financial Statistics-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national Monetary Found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54000" y="765000"/>
            <a:ext cx="9158400" cy="538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00" y="765000"/>
                      <a:ext cx="9158400" cy="538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UCHAS GRAC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55440" y="1068480"/>
            <a:ext cx="9102960" cy="5730480"/>
            <a:chOff x="55440" y="1068480"/>
            <a:chExt cx="9102960" cy="5730480"/>
          </a:xfrm>
        </p:grpSpPr>
        <p:graphicFrame>
          <p:nvGraphicFramePr>
            <p:cNvPr id="343" name=""/>
            <p:cNvGraphicFramePr/>
            <p:nvPr/>
          </p:nvGraphicFramePr>
          <p:xfrm>
            <a:off x="55440" y="1068480"/>
            <a:ext cx="91029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440" y="1068480"/>
                      <a:ext cx="91029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"/>
            <p:cNvSpPr/>
            <p:nvPr/>
          </p:nvSpPr>
          <p:spPr>
            <a:xfrm>
              <a:off x="457200" y="62485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ABASTECIMIENTO EN EL MERCADO MAYORISTA DE LIM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4947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Precios y volúmenes suministrados al Mercado Mayorista de Lima 2001, 2002 y 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7160" y="1181160"/>
            <a:ext cx="9096480" cy="5678640"/>
            <a:chOff x="47160" y="1181160"/>
            <a:chExt cx="9096480" cy="5678640"/>
          </a:xfrm>
        </p:grpSpPr>
        <p:graphicFrame>
          <p:nvGraphicFramePr>
            <p:cNvPr id="351" name=""/>
            <p:cNvGraphicFramePr/>
            <p:nvPr/>
          </p:nvGraphicFramePr>
          <p:xfrm>
            <a:off x="66600" y="1181160"/>
            <a:ext cx="9077040" cy="510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00" y="1181160"/>
                      <a:ext cx="907704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"/>
            <p:cNvSpPr/>
            <p:nvPr/>
          </p:nvSpPr>
          <p:spPr>
            <a:xfrm>
              <a:off x="47160" y="6400800"/>
              <a:ext cx="324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NOTA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: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Precio de Mandarina Satsum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Fuente: Mercado Mayorista de Frutas  Nº 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5400" y="1219320"/>
              <a:ext cx="17524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13800" y="129564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4200" y="1524240"/>
              <a:ext cx="1104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78200" y="1494000"/>
              <a:ext cx="57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3,958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9,99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1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231840" y="907920"/>
            <a:ext cx="8877240" cy="6102720"/>
            <a:chOff x="231840" y="907920"/>
            <a:chExt cx="8877240" cy="6102720"/>
          </a:xfrm>
        </p:grpSpPr>
        <p:graphicFrame>
          <p:nvGraphicFramePr>
            <p:cNvPr id="361" name=""/>
            <p:cNvGraphicFramePr/>
            <p:nvPr/>
          </p:nvGraphicFramePr>
          <p:xfrm>
            <a:off x="231840" y="907920"/>
            <a:ext cx="8877240" cy="5183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1840" y="907920"/>
                      <a:ext cx="8877240" cy="51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239760" y="6124680"/>
              <a:ext cx="3505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Mercado Mayorista de Frutas N° 2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aboración : Inform@cción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ABASTECIMIENTO EN EL MERCADO MAYORISTA DE LIMA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98360" y="98100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98100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064200"/>
            <a:ext cx="4527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IN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*Estim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1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PRODUCCION NACIONAL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TM) 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39640" y="-76680"/>
            <a:ext cx="619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Y PRECIOS MAYORISTA (US$ / KG)  ene 01 - dic 0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-11160" y="914400"/>
            <a:ext cx="9231480" cy="5942880"/>
            <a:chOff x="-11160" y="914400"/>
            <a:chExt cx="9231480" cy="5942880"/>
          </a:xfrm>
        </p:grpSpPr>
        <p:graphicFrame>
          <p:nvGraphicFramePr>
            <p:cNvPr id="375" name=""/>
            <p:cNvGraphicFramePr/>
            <p:nvPr/>
          </p:nvGraphicFramePr>
          <p:xfrm>
            <a:off x="0" y="990720"/>
            <a:ext cx="9220320" cy="550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0720"/>
                      <a:ext cx="9220320" cy="550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7" name=""/>
            <p:cNvSpPr/>
            <p:nvPr/>
          </p:nvSpPr>
          <p:spPr>
            <a:xfrm>
              <a:off x="7140600" y="914400"/>
              <a:ext cx="19270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9120" y="990720"/>
              <a:ext cx="406080" cy="246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7600" y="1219320"/>
              <a:ext cx="129204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22400" y="1209600"/>
              <a:ext cx="68076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63,597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94,618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9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66600" y="126036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26036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08000" y="626436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23640" y="-27360"/>
            <a:ext cx="686772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Y PRECIOS MAYORISTA (US$ / KG) 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11160" y="1052640"/>
            <a:ext cx="9123480" cy="5804640"/>
            <a:chOff x="-11160" y="1052640"/>
            <a:chExt cx="9123480" cy="5804640"/>
          </a:xfrm>
        </p:grpSpPr>
        <p:sp>
          <p:nvSpPr>
            <p:cNvPr id="392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93" name=""/>
            <p:cNvGraphicFramePr/>
            <p:nvPr/>
          </p:nvGraphicFramePr>
          <p:xfrm>
            <a:off x="6480" y="1123920"/>
            <a:ext cx="90741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123920"/>
                      <a:ext cx="90741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5" name=""/>
            <p:cNvSpPr/>
            <p:nvPr/>
          </p:nvSpPr>
          <p:spPr>
            <a:xfrm>
              <a:off x="7451640" y="1052640"/>
              <a:ext cx="16606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47080" y="112860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1357200"/>
              <a:ext cx="11052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24360" y="1327320"/>
              <a:ext cx="64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51,25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60,99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7:26:36Z</dcterms:created>
  <dc:creator>Luigi Riva Melofiro</dc:creator>
  <dc:description/>
  <dc:language>en-US</dc:language>
  <cp:lastModifiedBy>Asociacion Civil</cp:lastModifiedBy>
  <dcterms:modified xsi:type="dcterms:W3CDTF">2004-01-29T00:24:58Z</dcterms:modified>
  <cp:revision>50</cp:revision>
  <dc:subject/>
  <dc:title>COMERCIALIZACION DE ARROZ EN EL MERCADO PRODUCTORES DE STA. ANITA POR   AÑO 1999, 2000, 2001 y 2002 (TM)</dc:title>
</cp:coreProperties>
</file>